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E2B-E119-4DBD-A549-DB4DD61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873-2B1C-4556-8A13-DF1C3C7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549-F727-4F39-B7A6-3F738C66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5C0-B915-4B32-8589-DE6EECC3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F43-9D04-47F1-BF25-83A88E4A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AD9-4060-4757-8D6E-F07ACBA8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CC4-881B-40C4-9508-A7191D63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3AD-E056-4573-85F1-DB50C43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351-45E1-4AB7-A255-380E2423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3EA-349B-47DA-949F-B7906CC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A0F-9E60-4AB2-A6BC-57166DC3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3AD-B8D7-48B7-B8C7-4F8761E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11F-83B2-45E8-AAAE-E582B1D3C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0" y="25002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0" y="58435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9160" y="114480"/>
          <a:ext cx="8858160" cy="2428560"/>
        </p:xfrm>
        <a:graphic>
          <a:graphicData uri="http://schemas.openxmlformats.org/drawingml/2006/table">
            <a:tbl>
              <a:tblPr/>
              <a:tblGrid>
                <a:gridCol w="6072120"/>
                <a:gridCol w="2786040"/>
              </a:tblGrid>
              <a:tr h="24285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государственный совет по стандартизации, метрологии и сертификации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6"/>
          <p:cNvSpPr/>
          <p:nvPr/>
        </p:nvSpPr>
        <p:spPr>
          <a:xfrm>
            <a:off x="0" y="25855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СЕ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 группы по неразрушающему контролю  Научно-технической комиссии по метролог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 РГ НК НТКМетр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286000" y="594504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 октября 2011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МГС"/>
          <p:cNvPicPr/>
          <p:nvPr/>
        </p:nvPicPr>
        <p:blipFill>
          <a:blip r:embed="rId1"/>
          <a:srcRect l="0" t="0" r="55374" b="39559"/>
          <a:stretch/>
        </p:blipFill>
        <p:spPr>
          <a:xfrm>
            <a:off x="6558120" y="0"/>
            <a:ext cx="2381040" cy="24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2920" y="1893960"/>
            <a:ext cx="8858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оначально требования к лабораториям НК базировались на положениях международного стандарт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ИСО/МЭК 17025:199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национальные документы в области подготовки и сертификации персонала НК – на межгосударственных стандартах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ОСТ 30488-97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ОСТ 30489-97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снову которых составляли европейские стандарты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ЕН 45013-8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ЕН 473-9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соответственн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00160" y="285120"/>
            <a:ext cx="8715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бъединения профессионального потенциала специалистов НК Узбекистана и организации обмена опытом и информационного обеспечения в области НК с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в Узбекистане регулярно, с периодичность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раз в два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ятся совместно с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 «Саноатгеоконтехназорат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практические конференции по актуальным вопросам НК. В конференциях принимают участие специалисты НК практически всех отраслей экономики Узбекистана и ведущие специалисты НК С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знаковой была конференция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, в работе которой участвовали президент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народного комитета Н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це-президент Российского общества НК, технический эксперт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ГАТ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ласти НК, специалисты НК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захст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кра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обрившие основные принцип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ные в основу национальных нормативных документов в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1280" y="1580400"/>
            <a:ext cx="8858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ий импульс развитию работ в области НК дало принятие в 2006 год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Республики Узбекистан «О промышленной безопасности опасных производственных объектов». Специалистами ГИ «Саноатгеоконтехназорат» была разработана Концепция формирования и развития системы неразрушающего контроля в сфере промышленной безопасности, утвержденная в декабре 2008 постановлением Кабинета Министров Узбекистан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14200" y="127476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а работа по консолидации практикующих специалистов неразрушающего контроля страны, приведшая к созданию в 2008 году Узбекистанского общества неразрушающего контроля (УзОНК). В 2010 году на заседании Генеральной Ассамблеи Международного Комитета по Неразрушающему Контролю УзОНК принято в Комитет в качестве действительного члена. В настоящее время национальное общество НК имеет соглашения о сотрудничестве с аналогичными организациями России, Казахстана, Украины, участвует в издании международного журнала по НК «Территор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857160"/>
            <a:ext cx="85723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последние годы в Узбекистане активно внедряются международные стандарты в области оценки соответствия серии ИСО/МЭК 17000. В качестве национальных стандартов введены ИСО/МЭК 17025:2005, ИСО/МЭК 17024:2003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уквально на днях утвержден государственный стандарт Узбекистана на базе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ИСО 9712:200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язи с введением новых стандартов в сфере оценки соответствия пересмотрены национальные требования к лабораториям НК и к субъектам деятельности и процедурам в области подготовки и сертификации персонала Н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1280" y="555480"/>
            <a:ext cx="878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медленно проходит внедрение в область НК требований международного стандарта ИСО/МЭК 17025 и положений концепции неопределенности измерений. Соответственно тормозится внедрение в практику НК положений международных стандартов серии ИС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725. Слабо используются в области НК процедур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лабораторных сравн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Узбекистане действу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ее 5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й НК, объединяющи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оло 2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стов разных уровней квалификации. Из общего числа лабораторий аккредитовано в национальной системе аккредитаци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 сих пор в области промышленной безопасности функционируют лаборатории НК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рошедшие аккреди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42920" y="285840"/>
            <a:ext cx="885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збекистане при Навоийском горно-металлургическом комбинате действует Орган по сертификации персонала НК «Центральная лаборатория НК»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кредитованный в национальной системе аккредитации с 2009 год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ОСПНК аккредитован также в Системе добровольной сертификации персонала РОНКТД с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осуществляется в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кредитованном Учебном Цент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НК при ПО «Навоийский машиностроительном завод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ме указанного органа по сертификации, действует аттестационный центр по НК (АЦНК «Нур») в г. Чирчик. Центр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 проходил аккреди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то делает невозможным признание выдаваемых им сертификатов при аккредитации лаборатор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эти сертификаты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ка  признаются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И «Саноатгеоконтехназора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85840" y="714240"/>
            <a:ext cx="8501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ряду с традиционными методами неразрушающего контроля, такими, как ультразвуковой, радиографический или капиллярный, в Узбекистане все шире внедряются современные методы: акусто-эмиссионный, тепловизионный и други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стро развивающаяся промышленность Узбекистана ставит перед системой НК все новые и новые задачи в плане обеспечения качества выпускаемой продукции и обеспечения промышленной безопасности. Это делает важным и актуальным дальнейшее развитие НК в соответствии с требованиями международных стандар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rot="16200000">
            <a:off x="-2629440" y="30168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труктура националь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неразрушающего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572" t="0" r="0" b="0"/>
          <a:stretch/>
        </p:blipFill>
        <p:spPr>
          <a:xfrm>
            <a:off x="1214280" y="0"/>
            <a:ext cx="6715440" cy="692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324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бщество по неразрушающему контролю Узбекистан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УзОН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79280" y="830160"/>
            <a:ext cx="364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Зарегистрировано в Министерстве юст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Республики Узбекистана 29.10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лого FIN (узб)"/>
          <p:cNvPicPr/>
          <p:nvPr/>
        </p:nvPicPr>
        <p:blipFill>
          <a:blip r:embed="rId1"/>
          <a:stretch/>
        </p:blipFill>
        <p:spPr>
          <a:xfrm>
            <a:off x="6858000" y="552600"/>
            <a:ext cx="14000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87520" y="1355760"/>
            <a:ext cx="7902360" cy="542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14200" y="1449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ство «Узстандар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седани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РГ НК НТКМетр МГ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состоянии работ в области неразрушающего контроля в Узбекиста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42920" y="74700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седании Генеральной Ассамблеи Международного Комитета по Неразрушающему Контролю (ICNDT), проходившей одновременно с 10-ой Европейской конференцией по неразрушающему контролю (Москва, 7-11 июня 2010 г.), было рассмотрено заявление от УзОНК о вступлении в Комитет в качестве полноправ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лена (full member). УзОНК принято в ICND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оглас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ь комитета по сертификации персонала неразрушающего контроля в ICNDT м-р Джон Томпсон предложил рассмотреть вопрос о подписании Узбекистаном многостороннего соглашения о взаимопризнании сертификатов компетенции персонала неразрушающего контр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155736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Arial Blac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154836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система неразрушающего контроля стала формироваться в 1999 году, когда приказом Узгосстандарта (ныне – Агентство «Узстандарт») был образ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центр неразрушающего контроля Республики Узбеки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ЦНК РУ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функции которого были возложены на Научно-исследовательский институт стандартизации, метрологии и сертификации (НИИСМС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85840" y="135720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направлением деятельности ГЦНК РУз было определено содействие обеспечению единства испытаний и измерений в области неразрушающего контроля (НК) путем исследований и разработки основополагающих нормативных документов и методической помощи субъектам национальной системы Н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35712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мках государственной научно-технической программы Комитета по координации развития науки и технологий при Кабинете Министров Республики Узбекистан в НИИСМС в 2000 году была разработана Концепция национальной системы неразрушающего контроля, утвержденная Узгосстандарт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лане реализации Концепции стала создаваться нормативная основа этой системы, представленная комплектом основополагающих организационно-методических нормативных документов государственного уровня, включающим 10 государственных стандартов и руководящих документов Узбекист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14200" y="142920"/>
            <a:ext cx="8786880" cy="64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ыли нормативно установлены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принципы, правила и нормы организации и проведения неразрушающего контроля (НК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лабораториям неразрушающего контрол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лабораторий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методикам и инструкциям НК, порядок их разработки, аттестации и  регистра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подготовке и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учебным и экзаменационным центр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учебных и экзаменационных центров системы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214200" y="271476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нормативной основы национальной системы НК проводилась при тесном взаимодействии с Агентством «Саноатконтехназорат» (ныне – Государственная инспекция по надзору за геологическим изучением недр, безопасным ведением работ в промышленности, горном деле и коммунально-бытовом секторе при Кабинете Министров Республики Узбекистан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И «Саноатгеоконтехназора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 ведущими специалистами НК предприятий и организаций Узбекист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85840" y="357120"/>
            <a:ext cx="8501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пециальные требования к органам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органов по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орядок сертификации персонала Н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44360" y="21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ополагающие нормативные документ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збекистана в области неразрушающего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857160"/>
          <a:ext cx="8858160" cy="5927760"/>
        </p:xfrm>
        <a:graphic>
          <a:graphicData uri="http://schemas.openxmlformats.org/drawingml/2006/table">
            <a:tbl>
              <a:tblPr/>
              <a:tblGrid>
                <a:gridCol w="2643120"/>
                <a:gridCol w="6215040"/>
              </a:tblGrid>
              <a:tr h="731880">
                <a:tc gridSpan="2"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Государственные стандарты Узбеки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1:2001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неразрушающий. Организация и порядок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2:200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неразрушающий. Требования к лабораториям неразруш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3: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 испытаний    продукции.  Контроль  неразрушающий. Подготовка и сертификация персонала. Общие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4:2002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испытаний  продукции. Контроль неразрушающий. Требования к учебным и экзаменационным цент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5: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 неразрушающий. Инструкции и методики. Построение, содержание, изложение и оформ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9712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: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9712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:2005,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DT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 испытаний    продукции.  Контроль  неразрушающий. Подготовка и сертификация персонала. Общие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42920" y="500040"/>
          <a:ext cx="8858160" cy="5973840"/>
        </p:xfrm>
        <a:graphic>
          <a:graphicData uri="http://schemas.openxmlformats.org/drawingml/2006/table">
            <a:tbl>
              <a:tblPr/>
              <a:tblGrid>
                <a:gridCol w="2500200"/>
                <a:gridCol w="6357960"/>
              </a:tblGrid>
              <a:tr h="853560">
                <a:tc gridSpan="2"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Руководящие документы Узбекис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12: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лабораторий неразруш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21: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учебных и экзаменационных цен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29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система сертификации Республики Узбекистан. Контроль неразрушающий. Требования к органам по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30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система сертификации Республики Узбекистан. Контроль неразрушающий. Порядок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31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органов по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05:30:10Z</dcterms:created>
  <dc:creator>Alisher Hodjaev</dc:creator>
  <dc:description/>
  <dc:language>en-US</dc:language>
  <cp:lastModifiedBy>user</cp:lastModifiedBy>
  <dcterms:modified xsi:type="dcterms:W3CDTF">2011-11-08T06:24:11Z</dcterms:modified>
  <cp:revision>201</cp:revision>
  <dc:subject/>
  <dc:title>Заголовок слайда отсутствует</dc:title>
</cp:coreProperties>
</file>